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F00-FCE5-47DF-85B3-15A82218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BAE-A9CD-439C-8873-A93D379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952-182D-4DE3-9435-90B61DD9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28C-5C00-437C-8E57-89105000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F51F-4E1E-469F-A9A6-76D1EC2F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35A9-E9DD-4A4B-A1DD-68F9CDF4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C8FA-89F0-459C-9FA7-82DB0D53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33D1-3577-49F5-8B6B-16BE159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8F8-D410-45D4-80A8-0C4399F6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4A34-A127-41D2-849E-72886D1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CA7-0245-40D7-94B9-0701799A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3C0-8DC0-4420-BF4A-A46760BE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BEA1-FD10-4B9C-91A7-5180FFBA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D969-EDB8-4491-9B0F-0AF4BF7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4075-23EE-468B-A01E-1A45DE5B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5910-A490-4FD7-B1CF-31EB277F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124E-B692-4865-A389-E51999D3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3AB9-3921-47F0-A4C0-58A36B2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CF8-3CF9-4CB2-85B3-629D901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70A-1F89-4E50-8D53-32D67B10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08E-E0E1-449D-BBBD-ED8C755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238-8FB6-44E8-89AD-DE29E98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85E-ACDC-4E54-8E9C-A3A29767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D5B-E765-4C11-8F29-2B8791A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5F5B-C1C3-4B47-8A02-62FDD964AC2D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C666-C6CF-458A-B57F-0D499DF5757B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Equations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3276720"/>
                <a:ext cx="3448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429000" y="3048120"/>
                <a:ext cx="1593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276720" y="3124080"/>
                <a:ext cx="160020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429000" y="3048120"/>
                <a:ext cx="1593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olv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19520" y="3200400"/>
          <a:ext cx="299700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200400"/>
                    <a:ext cx="299700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4:53:16Z</dcterms:created>
  <dc:creator>PA Department of Education</dc:creator>
  <dc:description/>
  <dc:language>en-US</dc:language>
  <cp:lastModifiedBy>Parkland High School</cp:lastModifiedBy>
  <cp:lastPrinted>2010-09-21T15:30:49Z</cp:lastPrinted>
  <dcterms:modified xsi:type="dcterms:W3CDTF">2010-09-21T15:37:55Z</dcterms:modified>
  <cp:revision>4</cp:revision>
  <dc:subject/>
  <dc:title>Basic Equations</dc:title>
</cp:coreProperties>
</file>